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7BD-C7D6-4DE1-8E7C-929A748F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103-F428-4D2F-A10E-519FE88A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F15-8E41-486E-A69E-720E3B9B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09C-FAA5-4592-96D0-1F1138D6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BAD8-6E41-4D8A-B6F9-ECFA3BCA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6054-1757-461D-93E7-C41AC71D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9261-112A-4F65-8044-D7ABD122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AD37-559A-4772-9DD1-3D1DA901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C1D9-211D-4AFA-8778-22123FF7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676C-90D5-4A01-B20E-5B4DFEF9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5B19-001A-4CB1-B1AC-F60C099A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113-85E1-4721-BE10-88FCE221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3713-BFEB-4F04-9F06-AE38EBF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55EC-DA88-422B-9455-B2600FF2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1609-D16B-495F-B265-9DE5BA5D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02B2-8740-474B-BA21-92E4FC2F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C377-4F09-49A6-A8B0-42BC5D90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22F-BE0F-42F8-9EFA-E2AC6BB3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D28-4EB3-4627-9F28-4AC55726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24E-BA13-4265-8F85-838D0A80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813-A8A9-48E6-87E1-0CE6A73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0B3-D246-4BC5-BAEC-B1A334F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B06-6DCD-4EA7-9261-9D9895D6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F23-FC6F-4050-91BB-B19D24C2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5F1F-C7FB-4581-AE64-7F421F581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6056-5FB3-4241-BC28-5BBA7D8BC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Tahoma"/>
              </a:rPr>
              <a:t>Biomimicry:</a:t>
            </a:r>
            <a:br>
              <a:rPr sz="5400"/>
            </a:br>
            <a:r>
              <a:rPr b="1" lang="en-US" sz="4000" spc="-1" strike="noStrike">
                <a:solidFill>
                  <a:srgbClr val="ffffb7"/>
                </a:solidFill>
                <a:latin typeface="Tahoma"/>
              </a:rPr>
              <a:t>Integration Not Degrad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b7"/>
                </a:solidFill>
                <a:latin typeface="Tahoma"/>
              </a:rPr>
              <a:t>Presented By: Sara Wing, Jenny Lee, Lea Malewitz, Tommy C., Hannah N., Kate H., Ilya A., Brandon I., Nick B., Ari R</a:t>
            </a:r>
            <a:r>
              <a:rPr b="0" lang="en-US" sz="3200" spc="-1" strike="noStrike">
                <a:solidFill>
                  <a:srgbClr val="ffffb7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Tahoma"/>
              </a:rPr>
              <a:t>"Our greatest responsibility is to be good ancestors."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Tahoma"/>
              </a:rPr>
              <a:t>- Jonas Salk - inventor of the polio vaccine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5181480" cy="6080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 rot="1104000">
            <a:off x="6019200" y="137160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Tahoma"/>
              </a:rPr>
              <a:t>Janine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99ccff"/>
                </a:solidFill>
                <a:latin typeface="Tahoma"/>
              </a:rPr>
              <a:t>Beny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3244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www.naturaledgeproject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1030320"/>
            <a:ext cx="6934320" cy="4836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066680" y="58672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www.treehugger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71600" y="882720"/>
            <a:ext cx="6477120" cy="5137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295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www.johnniemoore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" y="1143000"/>
            <a:ext cx="3586320" cy="4781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62360" y="1143000"/>
            <a:ext cx="387216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609480" y="6095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http://web.mit.edu/newsoffice/2008/adhesive-0218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817560"/>
            <a:ext cx="7238880" cy="504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http://money.cnn.com/galleries/2007/autos/0702/gallery.future_safety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639040" cy="5638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676520" y="6095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By: Text editing of Jenny , Lea, and S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b7"/>
                </a:solidFill>
                <a:latin typeface="Tahoma"/>
                <a:ea typeface="Tahmo"/>
              </a:rPr>
              <a:t>Acciording to the Nine Principles of Nature for biomimicry applications, </a:t>
            </a:r>
            <a:r>
              <a:rPr b="0" i="1" lang="en-US" sz="3000" spc="-1" strike="noStrike">
                <a:solidFill>
                  <a:srgbClr val="ffffb7"/>
                </a:solidFill>
                <a:latin typeface="Tahoma"/>
                <a:ea typeface="Tahmo"/>
              </a:rPr>
              <a:t>Nature…</a:t>
            </a:r>
            <a:br>
              <a:rPr sz="2200"/>
            </a:b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6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1. Runs on sunlight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2. Uses only the energy it needs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3. Fits form to function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4. Recycles everything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5. Rewards cooperation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6. Banks on diversity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7. Demands local expertise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8. Curbs excesses from within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9. Taps the power of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1:25:11Z</dcterms:created>
  <dc:creator>Anonymous</dc:creator>
  <dc:description/>
  <dc:language>en-US</dc:language>
  <cp:lastModifiedBy>Anonymous</cp:lastModifiedBy>
  <dcterms:modified xsi:type="dcterms:W3CDTF">2008-03-10T02:06:39Z</dcterms:modified>
  <cp:revision>4</cp:revision>
  <dc:subject/>
  <dc:title>Biomimicry: Integration Not Degradation</dc:title>
</cp:coreProperties>
</file>